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6C399-641D-4BEF-9165-37D5928DC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ED118-FDC2-43E2-BA04-5A4A5118E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C2714B83-D4F7-4DAA-8E75-38A06F1954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8FCD3625-52B0-4744-97E9-ADFA9743FAF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3469EDF7-4FBB-4E8D-AA8C-7F15781D98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1626664F-0B27-441C-B563-8F5F9D5FF89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FC64EB6E-2812-4CB7-A416-AFF1FFF441B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17FE6948-4FD9-49F7-8AD2-C807DE4A81E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B507DAFF-04B5-469D-88EC-09064FABD0C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61ED0137-F967-4B64-88F4-D31E4BCFF83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D0AC8485-EDF9-49C1-8FDD-8DD49752C8D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A7743D9-2332-47AE-A798-6C078B9E3B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37D4B-0FB6-46DD-8779-5E0AEF213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F0880DE3-C706-46E8-ABB6-FCC5CB5B2A2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7AB88F88-3E52-4FBC-8697-574E86E6B20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AB39F244-6D52-427F-A5B8-8E2C769714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B81CCE4F-F5B8-457E-A3D7-AF7760B5DF9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4CE5B379-6193-4D12-BCDF-E7A29B9F6D9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6C606253-3263-4416-8950-53D4194DEAA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6C7FDDF3-C94E-4AC5-8E79-18BCDE97151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3C39B9B3-F12C-40AE-88A9-44FC446237C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8BBA8202-B715-4D78-B0F8-3415DB98DC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2D4B5B0C-9AC2-4382-82C4-6B0C50F40A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C653D-F5E5-4E14-BBC3-CE9AD9C9A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F72853A1-6902-4D15-B16F-95C678C7A4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5189E36-1EEC-47BA-951F-E8BA6AEE9E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E5BE37BB-0820-464E-BC3F-9BE11AEDB7E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AD927826-12E1-4FA6-9276-6CBFA3EB7BA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1841D4C0-8F86-406D-A69D-51EFF48FCD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94CC9680-0B9E-4A4A-BA6E-D7F37F056E0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E525280D-F5FD-4872-A21A-DBB8F42CF92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447A6289-0010-4BA5-8D05-E5DAEEE3C92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8C5E6873-943E-4EA3-8EE2-0087695AE1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93311FEE-8B02-40C5-91AE-1DAFBFE427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8B847FFF-63F1-43EE-B7D1-86DBD7B9C15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743ABD6C-6FE5-4CC4-98DC-4CE230124AC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70498992-EEA3-481D-AC5D-1BA461296C0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D5EAFB8-A006-4833-812A-EC6AF33D25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0738C7FF-373A-48B1-8532-F9E8B026DB7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5497A52E-A4EA-4E90-81B3-E71C67CB1F4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48032A89-0C19-4EFF-BEFA-41F2CEFA849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A5599F9B-0A58-4AC3-B9F2-67F6A618EAB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636A3EE3-A3E6-4442-A10F-E304A9E70ED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A9123EC0-BC37-432B-A113-B77ACE2CF5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7A4B59BD-B7E1-4034-9929-0BAF4948215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7DBBD2F4-2B7A-4EB2-A6C1-57BE245C44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9264585D-6D97-41FC-97A8-D7AAFFD960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5C70A6B9-3703-4037-B2F3-1F6D18EA250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895B8F11-D113-4140-BAA7-E53C65356E3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F363F91-2BD8-4934-B537-7A4A5BE681E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097D74DB-E0D2-48C4-BFCD-2B9E1520202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AAF0A47A-E6C6-4159-BCBF-827A1A734DC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11F58803-2F3B-4DD4-ADD8-D4D0F0F4D3E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F46BA113-9DA9-4465-BCD1-ADC7B34137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FB7F91E0-94D5-46DE-BBB0-0E6FBC6EDD2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6A9AEC7A-FD0A-4A21-8AC7-AA024065FA9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28ADCE0B-3436-492C-B874-D6C4F5E03DC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6CDC60DF-E07A-41B6-96CA-CD97E6D32B5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A401ACDF-2ACA-4EE5-9E15-B179DDBF634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6BCB5ED1-07EC-41E8-8A5D-A7260FCF8DE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17289094-B20C-4D88-B901-EED4930C1F8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DCC2A77-C1F5-4E09-B4BB-AF0D706D451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C8ABF87F-80E2-4AD9-A086-5E4E63C6A48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5FC400E3-5E15-4718-A6EE-7ECC5F383F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7A3C86EC-CF72-4627-98B4-A8B1EB994F8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ACC9419B-004F-457C-8D11-2F5397CF10B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457283CB-1265-4186-88A8-24387EC2976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093486B5-E153-4C28-8538-0034E6D9C32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3DD3611E-6039-4AF1-AA9E-E85570C5C0B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D4E009D9-B53F-4330-ACAA-25040A73500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C3CB43DA-87A9-47BC-BB1B-AEA8B3DC3AB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4B70A4CF-4111-4C27-99CB-C6CC1869B83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7584ACBE-E55A-453F-8E97-0E176F9CD1D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5CE1940-6543-4EA0-B826-176E2EA6DE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7FB10471-FC77-4DF8-A94A-E08F2FF4083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9C7303B3-6642-4BD6-910D-63D9CFB4BC9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16FE76DC-1871-4E27-8718-05484FC00A5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96A5A1F2-9B28-4E0F-83F5-965981E1B7B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33D4B3FB-B64A-4D12-A56F-FB7E6E044AE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7AC35DFD-8A57-42A9-849B-7E5BDC7896A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0CE6A9AA-B0EE-47F4-8621-5B8CACAECAB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98B9D7D3-6777-4262-8BC3-33DF478F33E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3AC89844-492C-4179-826D-56D44EA18A5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B4A59545-2D2F-493D-9B84-50498A3216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7562C2C2-56E5-4D23-8D6B-8A6C090B40E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C91962A-90FE-4B53-8414-5F5406465AD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0D12F347-3E99-4284-B855-68E3F797A54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FD2C5D13-867F-4F71-9393-492539B899F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0E634E3D-628E-4656-8AD0-977EE95BC3A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FAA70E5B-07DF-4135-9B7F-57B303F42DB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943DE1A9-52F4-427E-8446-4914D6191A2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F55332AB-1732-44FC-87B6-8661F96AC00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BB3E5781-9604-4358-8F6A-31DFDDB7712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DB8AFFE0-B4CF-4AA3-B92C-FF0ACE433F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C1823A63-AF27-4D38-AFB2-F3C1E28B7B1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ACBCA18C-A35C-4646-8F47-ABC89B2FE8E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A866FBA7-5784-434F-9223-46E3F5EA80D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20DCBB5-C7AE-4B8A-B688-1250D58405A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8028477C-9498-4CA3-8DF8-04578A5E4E0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90C080D3-6418-42D4-9F37-3F1D44F3143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CA20DF1B-62F8-48B7-B5EE-92943698B30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0A751941-DD9E-4FDC-9A58-0CB07E90AC0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75557127-5D9C-4938-AEE3-4F06453BFAD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2FA7C3DD-4507-4847-9CBD-A325F4BE02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14609-8D3B-4C5A-8CB2-F69B484E3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F3D60FA4-BF3A-4599-AE74-C09FA9638DB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F788C4C1-36E7-4F8E-8189-C5EE2305A39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18D3E79D-3C38-4A32-934F-C76781D2F29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04EC2625-D462-4ED5-903C-BE058302933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5DDD0E5E-2B28-4632-BED3-E647381BBE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9C3AE8-4974-47E1-B6DB-12F9795322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38631834-90E3-41BA-A4F1-C288FA94D3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99346045-04C5-4E69-9B2E-5C1A33AFE0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1D8C3DFB-8011-4F91-A115-3FC0583257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841B6AE2-FFFF-403D-939A-3FB78CA60D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60078-D3A5-44A1-AB88-797086CED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8221AD8E-9CE2-48DF-9FA2-20E1D537A8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9D568F03-CFF9-4A25-8740-35DFC5FE43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A8DFF8DB-0125-457A-9B7E-570919D304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2442B520-3DFF-42F8-B4D4-AEA0B2A757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2F159129-6085-45A6-B0CE-1592CCDA8F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3299E00C-DD02-4533-B3EA-8C0F1E6CEA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767D7A8D-0B7B-4396-98D8-43CB41B2FF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0515655-1CD6-4FE0-A5B5-7B6C536B0BB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215A436F-CC0A-4FAF-98F4-646CE38CB7D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3B8F2186-E3B0-4644-96AE-50C15FA090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FDDFD-9C49-4C85-A799-8E1F5788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0EF2EBC5-14F0-43DD-AC63-ED1E3346268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431A8298-C13E-4350-B4BB-9E66E541B6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57DE6D14-1107-4773-BF9F-1812DE7421E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378A9693-DB31-4563-BE68-1A04578FA69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6FB34304-F5E1-4884-B7CE-EA88A90C3A1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9E180C03-9EE4-444B-8D50-A885964D9DE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2B019418-CA9D-41A5-B547-759515F222C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5F90E943-066C-4E86-B59A-17D280CDFE8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DC189E34-5848-4E2D-9760-BB694A6C295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9EB1384-C6D9-4543-8765-E273B53BCB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8A1E7-34E6-46D2-8475-15F1B629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890042FA-FD7C-40A5-916F-59A687351D2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FCB25814-8B9E-4F60-8029-EA1DC2A780F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F87AD3E1-7B48-4C8C-9043-2E7C305F02C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894DF6EF-10C3-4A34-969E-5BECE52C632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DD7B373D-0350-40D8-BD3F-CBCCDACFAF1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37E4E937-2093-4089-947F-8FD3F376C4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06DEB193-9480-4597-8A69-B66B1A74A7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66126089-55BA-4E48-8A51-87B8E14EBA4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3E0195C4-463A-43B1-B723-5A80A0F7630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FC77CB22-C530-45EB-991B-10C791C1EF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9751D-FCB5-48CE-8503-DCCF8B007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B7359CFE-DE2A-4E65-8C0F-8895D2258B7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1C6B9B6-07B5-42D0-8324-AD7E937054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ED4EAA0C-CA5F-4CCC-BAB8-86BDC00BC1E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7BC719DE-ECCC-4F25-ACDF-141135ACC74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26EA13CC-99A3-4B4C-B736-0BD8FD91CB4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8C64467B-ED7E-4468-8163-B157FA58349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CBFC6623-16EC-4873-BC9A-91F1BFF5B83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9F19219A-71FF-4C0A-8A7A-F63BEE3CE1B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0A96F038-F891-4AFD-B0F0-F3FE2EC233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8B5B9E29-B3B0-4C26-A3A4-B2331E742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7D44E-7DA0-4197-9F35-D4AD6873E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1C40DC4B-2A74-4B26-A553-304D3EE840E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AB356F37-E4E7-454B-B693-FA7807607BD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77E7058C-333B-44DF-816F-C8ACD7C11E3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265B070-0923-4517-96CF-D2E28B2E4FE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BF1D1B99-49E9-43B3-A5AE-595900FBC4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135ACCA9-C9BE-43E2-A026-DC8D8E95EDB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3E556021-B747-43EC-8ECE-8F90A4C0F44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C3399FFD-C46C-4ACA-BD62-17B2BB25862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D0747079-C3EF-45D7-9AF0-46C60AF9F3B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846C641F-AC29-448E-8F15-CDCDE4BE6D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3442F-7457-49FD-BB2E-99D29E972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CD6958B2-3989-4233-9F58-C200247FB1C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D3A7C2B8-9AA9-4BD6-99B3-7A60FE3DB7D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08D82A35-653A-4E3E-A259-B77329FEAD3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BA34F3C3-FCBE-4FFF-AFAC-C7D5352B3E9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D3F0695B-9CD4-4607-A816-1CC662D60BC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77C14B3-9286-40E8-929C-52AB6E1A313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0A695DAD-A8F5-41FE-AF65-7185FCE478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968ABBB1-C799-4B4F-AB8D-7F191AB4182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8018532A-09D2-43B6-99B1-903667440D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324E816E-27E4-4C13-9B02-8979E42A23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22A23-884A-442B-A84D-D9C0904D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3BBA89A2-11DA-4CF2-8F52-B70E92F5B01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7B62D710-8199-4379-B2D5-6465209A293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9B6E239B-9164-479F-B586-4AD16174C92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21B279B8-9D64-4E6C-BC06-CB9FD27C76B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9EF68D96-3672-4DE5-8097-6AC0D762D5F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EC5EB8A6-B3BA-48D7-855A-6E3B26AFFF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797B73D4-2BD2-4A49-A29B-28D877450AB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DDAFEA8-6056-4345-A308-438A2235F05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D483C551-20D3-43F2-9D0F-FFF65CCE58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11E63C5C-E5DA-4B6B-9937-9FEA4EA0D9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16F7-78CD-4F95-AD51-3BA3CA50BF8B}" type="slidenum">
              <a:rPr b="0" lang="en-GB"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93B8-A019-4D36-8B39-839FE3CA444E}"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E415-C05D-4A05-B986-0E1FC3E0B499}"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3B32-66D6-4B12-A280-75C510047C8E}"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6687-9E6E-4F87-967A-4CB1498DC9E4}"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12B5-0E96-4594-8B4A-472A4B82C6A2}"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9C05-FCC8-4153-9ADD-0D2AFBEE4F56}"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AB2F-3160-417F-81C1-14487673040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E90B-6687-4B74-8BE6-EC95F347D01C}"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0" y="0"/>
            <a:ext cx="10161720" cy="7628040"/>
          </a:xfrm>
          <a:prstGeom prst="rect">
            <a:avLst/>
          </a:prstGeom>
          <a:ln w="0">
            <a:noFill/>
          </a:ln>
        </p:spPr>
      </p:pic>
      <p:pic>
        <p:nvPicPr>
          <p:cNvPr id="43" name="Picture 2" descr=""/>
          <p:cNvPicPr/>
          <p:nvPr/>
        </p:nvPicPr>
        <p:blipFill>
          <a:blip r:embed="rId3"/>
          <a:stretch/>
        </p:blipFill>
        <p:spPr>
          <a:xfrm>
            <a:off x="1766880" y="7051680"/>
            <a:ext cx="1689120" cy="420840"/>
          </a:xfrm>
          <a:prstGeom prst="rect">
            <a:avLst/>
          </a:prstGeom>
          <a:ln w="0">
            <a:noFill/>
          </a:ln>
        </p:spPr>
      </p:pic>
      <p:sp>
        <p:nvSpPr>
          <p:cNvPr id="44" name="Text Box 10"/>
          <p:cNvSpPr/>
          <p:nvPr/>
        </p:nvSpPr>
        <p:spPr>
          <a:xfrm>
            <a:off x="434880" y="716904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CEP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B802-EAA9-4D5D-B809-B1BE9C905E17}"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69B1-CF9C-4F76-AD29-3F93C8D83A0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AB98-97A7-4075-8BAA-3F94BA2D9D5F}"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E90E-3EFE-4DF3-AF1D-AF176634A25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7DBA-B9FD-4EAC-8275-059840B89AD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11EC-D706-4746-B4CF-08D367D15281}"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964D-AEC3-4730-AF78-2AF79A5E6F7A}"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idea.gov.uk/health" TargetMode="External"/><Relationship Id="rId2" Type="http://schemas.openxmlformats.org/officeDocument/2006/relationships/hyperlink" Target="http://www.idea.gov.uk/health"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6880" y="929880"/>
            <a:ext cx="8636040" cy="1521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a:t>
            </a:r>
            <a:br>
              <a:rPr sz="3200"/>
            </a:br>
            <a:r>
              <a:rPr b="1" lang="en-US" sz="3200" spc="-1" strike="noStrike">
                <a:solidFill>
                  <a:srgbClr val="ff8000"/>
                </a:solidFill>
                <a:latin typeface="Arial"/>
              </a:rPr>
              <a:t>Cutting Edge Practice</a:t>
            </a:r>
            <a:endParaRPr b="0" lang="en-US" sz="3200" spc="-1" strike="noStrike">
              <a:solidFill>
                <a:srgbClr val="002060"/>
              </a:solidFill>
              <a:latin typeface="Arial"/>
            </a:endParaRPr>
          </a:p>
        </p:txBody>
      </p:sp>
      <p:sp>
        <p:nvSpPr>
          <p:cNvPr id="704" name="PlaceHolder 2"/>
          <p:cNvSpPr>
            <a:spLocks noGrp="1"/>
          </p:cNvSpPr>
          <p:nvPr>
            <p:ph type="subTitle"/>
          </p:nvPr>
        </p:nvSpPr>
        <p:spPr>
          <a:xfrm>
            <a:off x="686880" y="4458960"/>
            <a:ext cx="8425080" cy="1871640"/>
          </a:xfrm>
          <a:prstGeom prst="rect">
            <a:avLst/>
          </a:prstGeom>
          <a:noFill/>
          <a:ln w="0">
            <a:noFill/>
          </a:ln>
        </p:spPr>
        <p:txBody>
          <a:bodyPr lIns="101520" rIns="101520" tIns="50760" bIns="50760" anchor="t">
            <a:noAutofit/>
          </a:bodyPr>
          <a:p>
            <a:pPr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060"/>
              </a:solidFill>
              <a:latin typeface="Arial"/>
            </a:endParaRPr>
          </a:p>
          <a:p>
            <a:pPr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06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Susan Biddle - Joint Head of Healthy Communities Programme - IDeA</a:t>
            </a:r>
            <a:endParaRPr b="0" lang="en-US" sz="24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ww.idea.gov.uk/health</a:t>
            </a:r>
            <a:endParaRPr b="0" lang="en-US" sz="2000" spc="-1" strike="noStrike">
              <a:solidFill>
                <a:srgbClr val="00206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71240" y="426600"/>
            <a:ext cx="9142200" cy="9320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cutting edge practice?</a:t>
            </a:r>
            <a:r>
              <a:rPr b="0" lang="en-US" sz="4900" spc="-1" strike="noStrike">
                <a:solidFill>
                  <a:srgbClr val="002060"/>
                </a:solidFill>
                <a:latin typeface="Arial"/>
              </a:rPr>
              <a:t> </a:t>
            </a:r>
            <a:endParaRPr b="0" lang="en-US" sz="4900" spc="-1" strike="noStrike">
              <a:solidFill>
                <a:srgbClr val="002060"/>
              </a:solidFill>
              <a:latin typeface="Arial"/>
            </a:endParaRPr>
          </a:p>
        </p:txBody>
      </p:sp>
      <p:sp>
        <p:nvSpPr>
          <p:cNvPr id="706" name="PlaceHolder 2"/>
          <p:cNvSpPr>
            <a:spLocks noGrp="1"/>
          </p:cNvSpPr>
          <p:nvPr>
            <p:ph/>
          </p:nvPr>
        </p:nvSpPr>
        <p:spPr>
          <a:xfrm>
            <a:off x="542880" y="1434600"/>
            <a:ext cx="9142560" cy="5031000"/>
          </a:xfrm>
          <a:prstGeom prst="rect">
            <a:avLst/>
          </a:prstGeom>
          <a:noFill/>
          <a:ln w="0">
            <a:noFill/>
          </a:ln>
        </p:spPr>
        <p:txBody>
          <a:bodyPr lIns="101520" rIns="101520" tIns="50760" bIns="5076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ome examples:</a:t>
            </a:r>
            <a:endParaRPr b="0" lang="en-US" sz="24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erseyside Fire and Rescue Service and Wirral PCT</a:t>
            </a:r>
            <a:endParaRPr b="0" lang="en-US" sz="20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ow a beacon amongst Fire and rescue authorities Merseyside have successfully re-designed huge areas of their work to contribute to community health improvement.</a:t>
            </a:r>
            <a:br>
              <a:rPr sz="2000"/>
            </a:b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Lambeth PCT</a:t>
            </a:r>
            <a:endParaRPr b="0" lang="en-US" sz="20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2000" spc="-1" strike="noStrike">
                <a:solidFill>
                  <a:srgbClr val="000000"/>
                </a:solidFill>
                <a:latin typeface="Arial"/>
              </a:rPr>
              <a:t>A partnership with the African communities in S and SE London. Working with and through mosques and churches and other community based organisations to raise awareness of HIV and sexual health issues. </a:t>
            </a:r>
            <a:br>
              <a:rPr sz="2000"/>
            </a:b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taffordshire County Council</a:t>
            </a:r>
            <a:endParaRPr b="0" lang="en-US" sz="20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orking towards a whole Staffordshire approach to health (strategy to delivery), merging health, social care and community services. Innovative work with young people around alcohol and with older people              around well-being.</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71240" y="42696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More cutting edge practice……..</a:t>
            </a:r>
            <a:endParaRPr b="0" lang="en-US" sz="3200" spc="-1" strike="noStrike">
              <a:solidFill>
                <a:srgbClr val="002060"/>
              </a:solidFill>
              <a:latin typeface="Arial"/>
            </a:endParaRPr>
          </a:p>
        </p:txBody>
      </p:sp>
      <p:sp>
        <p:nvSpPr>
          <p:cNvPr id="708" name="PlaceHolder 2"/>
          <p:cNvSpPr>
            <a:spLocks noGrp="1"/>
          </p:cNvSpPr>
          <p:nvPr>
            <p:ph/>
          </p:nvPr>
        </p:nvSpPr>
        <p:spPr>
          <a:xfrm>
            <a:off x="542880" y="1506600"/>
            <a:ext cx="9142560" cy="501480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Cornwall and Isles of Scilly PCT</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collaboration of public and voluntary sector organisations has worked together to support Cornwall’s health trainers network. An approach designed to integrate with existing local services and provide health support to rural and dispersed communities, many facing multiple deprivation.</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Peterborough PCT</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workplace project designed to help local employers promote healthy lifestyles amongst worker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ore on</a:t>
            </a:r>
            <a:r>
              <a:rPr b="1" i="1" lang="en-GB" sz="2000" spc="-1" strike="noStrike">
                <a:solidFill>
                  <a:srgbClr val="000066"/>
                </a:solidFill>
                <a:latin typeface="Arial"/>
              </a:rPr>
              <a:t> </a:t>
            </a:r>
            <a:r>
              <a:rPr b="0" lang="en-GB" sz="2000" spc="-1" strike="noStrike" u="sng">
                <a:solidFill>
                  <a:srgbClr val="0000ff"/>
                </a:solidFill>
                <a:uFillTx/>
                <a:latin typeface="Arial"/>
                <a:hlinkClick r:id="rId1"/>
              </a:rPr>
              <a:t>www.idea.gov.uk</a:t>
            </a:r>
            <a:r>
              <a:rPr b="0" lang="en-GB" sz="2000" spc="-1" strike="noStrike" u="sng">
                <a:solidFill>
                  <a:srgbClr val="0000ff"/>
                </a:solidFill>
                <a:uFillTx/>
                <a:latin typeface="Arial"/>
                <a:hlinkClick r:id="rId2"/>
              </a:rPr>
              <a:t>/health</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ondon Borough of Greenwich – a Beacon council</a:t>
            </a:r>
            <a:endParaRPr b="0" lang="en-US" sz="2400" spc="-1" strike="noStrike">
              <a:solidFill>
                <a:srgbClr val="00206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7240" y="714240"/>
            <a:ext cx="8963280" cy="860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What is cutting edge?</a:t>
            </a:r>
            <a:endParaRPr b="0" lang="en-US" sz="3200" spc="-1" strike="noStrike">
              <a:solidFill>
                <a:srgbClr val="002060"/>
              </a:solidFill>
              <a:latin typeface="Arial"/>
            </a:endParaRPr>
          </a:p>
        </p:txBody>
      </p:sp>
      <p:sp>
        <p:nvSpPr>
          <p:cNvPr id="710" name="PlaceHolder 2"/>
          <p:cNvSpPr>
            <a:spLocks noGrp="1"/>
          </p:cNvSpPr>
          <p:nvPr>
            <p:ph/>
          </p:nvPr>
        </p:nvSpPr>
        <p:spPr>
          <a:xfrm>
            <a:off x="687240" y="1650600"/>
            <a:ext cx="8568000" cy="503100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remember - winners can only be identified from a pool of entrants.  There is plenty more out there.</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ting edge practice is contextual – not always indicative of excellence throughout an organisation (although Beacon scheme is more rigorou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interesting is what underpins or enables good practice – the how</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we expect more now than we did a few years</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O DISCU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 you think good practice in tackling health inequalities and improving the health of your communities looks like?</a:t>
            </a:r>
            <a:endParaRPr b="0" lang="en-US" sz="2000" spc="-1" strike="noStrike">
              <a:solidFill>
                <a:srgbClr val="00206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542520" y="304560"/>
            <a:ext cx="910764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Factors that seem to matter…..</a:t>
            </a:r>
            <a:endParaRPr b="0" lang="en-US" sz="3200" spc="-1" strike="noStrike">
              <a:solidFill>
                <a:srgbClr val="002060"/>
              </a:solidFill>
              <a:latin typeface="Arial"/>
            </a:endParaRPr>
          </a:p>
        </p:txBody>
      </p:sp>
      <p:sp>
        <p:nvSpPr>
          <p:cNvPr id="712" name="PlaceHolder 2"/>
          <p:cNvSpPr>
            <a:spLocks noGrp="1"/>
          </p:cNvSpPr>
          <p:nvPr>
            <p:ph/>
          </p:nvPr>
        </p:nvSpPr>
        <p:spPr>
          <a:xfrm>
            <a:off x="546120" y="1434960"/>
            <a:ext cx="9142560" cy="5230800"/>
          </a:xfrm>
          <a:prstGeom prst="rect">
            <a:avLst/>
          </a:prstGeom>
          <a:noFill/>
          <a:ln w="0">
            <a:noFill/>
          </a:ln>
        </p:spPr>
        <p:txBody>
          <a:bodyPr lIns="101520" rIns="101520" tIns="50760" bIns="50760" anchor="t">
            <a:normAutofit/>
          </a:bodyPr>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 and context – opportunity and building on/using open door</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streamed or having the capacity to be mainstreamed, large or        small scale</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ppen within an overall strategic approach</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ity – focus (which group, where, what problem)</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de a difference which can be evidenced</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ferable to other areas and contexts.</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ed approach – involving action across the authority and its partners.</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olves the efforts and contributions of a number of partners, individuals and groups.</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ingful to the community involved – community voice and involvement threaded through.</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knowledge difference and diversity</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th outside the box thinking and continual improvement/re-shaping</a:t>
            </a:r>
            <a:endParaRPr b="0" lang="en-US" sz="2000" spc="-1" strike="noStrike">
              <a:solidFill>
                <a:srgbClr val="00206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060"/>
                </a:solidFill>
                <a:latin typeface="Arial"/>
              </a:rPr>
              <a:t>	</a:t>
            </a:r>
            <a:r>
              <a:rPr b="0" lang="en-GB" sz="1000" spc="-1" strike="noStrike">
                <a:solidFill>
                  <a:srgbClr val="002060"/>
                </a:solidFill>
                <a:latin typeface="Arial"/>
              </a:rPr>
              <a:t>	</a:t>
            </a:r>
            <a:r>
              <a:rPr b="0" lang="en-GB" sz="1000" spc="-1" strike="noStrike">
                <a:solidFill>
                  <a:srgbClr val="002060"/>
                </a:solidFill>
                <a:latin typeface="Arial"/>
              </a:rPr>
              <a:t>	</a:t>
            </a:r>
            <a:endParaRPr b="0" lang="en-US" sz="1000" spc="-1" strike="noStrike">
              <a:solidFill>
                <a:srgbClr val="00206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98160" y="569520"/>
            <a:ext cx="9142200" cy="1079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What can we do here – Beyond Beacon Status</a:t>
            </a:r>
            <a:endParaRPr b="0" lang="en-US" sz="3200" spc="-1" strike="noStrike">
              <a:solidFill>
                <a:srgbClr val="002060"/>
              </a:solidFill>
              <a:latin typeface="Arial"/>
            </a:endParaRPr>
          </a:p>
        </p:txBody>
      </p:sp>
      <p:sp>
        <p:nvSpPr>
          <p:cNvPr id="714" name="PlaceHolder 2"/>
          <p:cNvSpPr>
            <a:spLocks noGrp="1"/>
          </p:cNvSpPr>
          <p:nvPr>
            <p:ph/>
          </p:nvPr>
        </p:nvSpPr>
        <p:spPr>
          <a:xfrm>
            <a:off x="471600" y="1515600"/>
            <a:ext cx="9107280" cy="5031000"/>
          </a:xfrm>
          <a:prstGeom prst="rect">
            <a:avLst/>
          </a:prstGeom>
          <a:noFill/>
          <a:ln w="0">
            <a:noFill/>
          </a:ln>
        </p:spPr>
        <p:txBody>
          <a:bodyPr lIns="101520" rIns="101520" tIns="50760" bIns="5076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iscuss</a:t>
            </a:r>
            <a:endParaRPr b="0" lang="en-US" sz="24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should Greenwich be aiming now </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were still a Beacon in 5 years time, what would be happening, what would you see, what would the community and your partners see?</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Beacon what can you do to lead others?</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ction does the Council and do you need to take to get there. </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ly I need to….</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my service we need to….</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whole organisation we need to….</a:t>
            </a:r>
            <a:endParaRPr b="0" lang="en-US" sz="2000" spc="-1" strike="noStrike">
              <a:solidFill>
                <a:srgbClr val="00206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0:36:11Z</dcterms:modified>
  <cp:revision>24</cp:revision>
  <dc:subject/>
  <dc:title>Slide 1</dc:title>
</cp:coreProperties>
</file>